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5A4D-0D38-4039-8D7C-81B65B14C0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986E-9484-4E80-A96C-5856A6C92B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1FA-E873-4ACA-BA19-C87F08CA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1B8-7A4F-4E1D-9A0E-7CD2FF01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258E0-EBC3-4931-A2FF-6D0BE946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71A97-8B19-42DE-9CC8-9E9C156C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4EA18-F14E-4F70-AA05-9840F572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489EA-0D20-4839-A82D-237E74BB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5ACDF-8E73-45FA-BB58-F2856C8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2D096-586E-4F4E-8F4B-C52CE5E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852CB-78A4-4FCE-9A28-A9741A3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D04D3-E9FA-41F1-852E-61058A27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20419-3706-41E2-BE1C-31710F40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FF513-197E-4C9E-9F77-5C69C2AD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6B6-8027-4D53-808E-6510FE0C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7B4B0-5884-479F-9D32-707D720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4EE43-6EBA-471F-9702-238CB533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6E9F5-B5A0-4017-8BC6-609052B1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7B274-F826-48DE-9AD3-7A2B6252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6E749-9068-47CF-843C-72E898E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F61F8-B3C9-41AD-B8EA-52CD369B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9A25D-D2CE-4EDD-9790-F71CEA4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21BCF-2A9B-4D98-958E-DD92B69B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5D859-FA00-4BED-9E65-F3251F5A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D6523-64A8-4724-B495-E9709941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112-9C59-4477-9A79-78BD3B0D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5F8E6-EEC6-4070-9F08-9678464A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38E1E-7DB1-418B-8110-D69D9B52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F9D0-201C-4CAC-9CF8-E4548634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980C4-8A55-4F29-B4D0-AB4E4948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4D476-D6D6-4675-B3F6-5B36A787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1BB91-035E-4632-96E9-529E0463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84050-97F8-433C-B481-E570CC14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CFEF8-D107-4B2F-BDBA-8B66E1D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41759-A5C2-40E1-9C5C-79D282FD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20DDA-16FE-4D8A-BB89-2DA2A67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0823-DACD-44F1-BE35-1AA6659F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FC4B3-4330-418B-A8FC-A55C23BC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CF9CD-D4FB-4B49-B920-43DE7560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1DA28-7F70-45C3-9BE1-86893E79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8C7C6-36FB-419F-8D63-F15C3BDF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B31F8-F8AC-4F54-AC8E-79168D21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44890-76AB-4659-AA1F-59DCE636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63C2E-BE30-45FA-859B-CD7AC1F7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659C-D81D-4D79-8DFF-9585FC8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516C7-31A9-40F9-A628-29A48F41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96CAD-336D-4921-9DC2-F84F7EB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4414-79BC-47BD-9B15-5398BC7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88A82-3C89-463B-8697-01D590F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23BF8-91BE-4E35-A1B9-8402275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5D30-A8AD-43D2-BAAB-FD9F961E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69E7B-F7E2-45CA-8087-CAB94BC7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59D68-1F21-4947-BB76-C1B13D1D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00030-9384-4C0C-A2EA-A746741A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D847A-4CCC-44A2-88EE-97C6526C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FA81F-E625-4A21-9D4E-139CD33C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F6D03-09FD-48DA-9B17-10C990A9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02577-E64E-4AC4-9589-EA8B2C43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9462-7C8D-42E7-8CCD-B556F3DB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FFF73-15C7-40B3-817C-E2A2B94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A7DFA-A4C7-43BB-8577-14CF98C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A2C3E-0C4E-4667-8033-0CD4017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82F6B-67CF-46D8-A607-5B7A0E7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24E46-2553-4105-94C8-751B49AF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BEA29-059B-4005-9BE7-8364B1CF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138B7-87D2-4E4C-9B0B-63A274EB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C3930-C7DC-40EF-AE70-B4C7E6BB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EDD4A-380D-45F2-B902-DFE105D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13952-3FCB-446E-8453-DE7C095B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F372-977A-4BF7-BA4B-93F6490C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CF935-08E7-4A86-8A1D-D296F58D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0E37A-B24E-4715-8AC6-6F1E16F3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E8E91-D299-4C0A-9223-6E2C1D78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E5F21-344D-4E73-8C0C-21E003D0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9E6AE-4631-4CCB-B0BC-A08CCE4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F1E40-BA26-42F8-9A05-9AAE3BA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CA484-4490-46E6-A3A7-3EB464CE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73413-0AE1-4F0E-9C08-B56A83AB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FBFB4-9AE4-492C-9139-7B362D3E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CE6DF-864A-46D6-91BE-64C14B85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8EEB-3AC1-48BC-95AD-85E91184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EBC14-8E6E-40F3-B0CE-F3E47C0B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39EC6-1CD6-4422-BD41-07E2D0AD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57FBB-DD10-4D93-8567-AE6A3EC7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A6C79-AFAF-450F-B662-C1F47E5C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45FAD-84A2-4BFE-BA71-C1F38D89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2E948-26EC-4CE3-B5DB-2B6CB331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5EEFE-28D4-4701-864F-542F5CA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D4390-DAD7-436F-8A1A-50073F78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5A2AE-36D1-4FA7-8AAA-8C498123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CFA50-203E-4006-8418-0E3F2D9B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582A-AFDF-4A1F-A913-DEE4D99E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50306-4B47-472C-AF44-CCE37B0E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92F5-DCD4-4A03-8D6D-FBBF326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579-07C6-4690-A185-93B0965C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ECF-3507-4696-BBB9-C68570D3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3C10-61B7-48BA-9DD5-34CD6034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955F-3FE4-45E8-8C77-56CAAF58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2F65-2F04-468D-B3C5-94F26221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C65B-6C5B-4E81-9436-5F5DD559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740C-4876-42D2-893B-DE0D11F1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F3A7-CDBA-40F3-A7E4-9C3CABBA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3ED3-1510-41AF-B1EF-509BBB82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AD78-66EA-40E2-AACE-1DABD1A1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29BE-27E1-451D-A98E-6D48240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420-1C52-46D7-95F5-63C90375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DCCA-C079-4863-B3B9-2E3F277A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73B1-C652-4FB5-98FF-9E1D1CC6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6F18-9910-4799-AFB5-55F5BB0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418A-FA2F-4D04-AD9C-C58609D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57B6-CF7A-48EF-ADAD-C179AA09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77C3-B828-4715-93A0-FFCFD52B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EE8C0-9545-413A-9DB3-D3768372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8AF5-4864-47E5-828D-F3987D4D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12E2-B62D-4685-A60F-8F313BCC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398CD-AB17-40A5-8FC7-DD1B4DE8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A2A-6191-4ED8-85DF-A3B253A0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C8FF-90DB-4604-86BC-C54717F6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D8F8-E76D-4F0D-B26A-93832315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3A2F-0D21-4825-9AF1-8BB64029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C16ED-2A3E-416D-A002-61C3CF9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06DE-DAB1-4CE4-B296-BC8D3B0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6B7D6-782D-49BA-B7C6-23CB94D7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E4A5-F33E-4C67-AC5A-4A97DE16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3E20-64CC-4741-A8FA-F055E4AA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48DA9-1B9D-4C11-A6B4-D91008A3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016DE-4D1D-471B-9961-89B606CB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481-7833-4A2D-9ADD-ABAEA88F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0FAB4-920F-4F2E-AAF1-1A23B0F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AB5F4-AFE0-481F-9E10-059E8D43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3D1F-6A4A-4308-802C-869C21E5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EB1DA-2E2C-4167-B62D-56E89AF6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4B07-0081-49E5-82FA-6A142DAC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DB5CD-6CC7-4B8C-9392-9C8AFDB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3622-94D1-434F-91AC-04A5842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9CB32-6857-4859-9F07-9B9DC5D5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F21CA-8205-4B76-ABEB-31706098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8935-BD1C-4196-AEDB-C70B62F4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DFB-2BFE-4ECF-B0C8-C47D5A9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3CF5-3D28-4B5F-B5AE-99B8A090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ECC23-D9BA-45F0-B1EC-87AA73B8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0554-F1C6-40DF-B1CF-ECE6F36D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5A3D6-0D41-45BC-8843-65667F7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376A-F7C6-47DD-9DC0-0A91C23F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0CF82-F8C7-42A0-AC29-F1ED595B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B9A9-89BD-4B1E-B49F-C44CBF50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129BF-B2B3-4B73-8B2A-83A3BF1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DA6C-7153-4556-BB0F-115E9660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261F-FACD-4464-95C4-544CD60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396-19D3-4D5B-934B-0135C5E2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2861-AA10-4F5A-8FAB-C362F71D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D5E3-B443-4CDB-BC00-A117B133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27C06-D015-456B-8B6C-08C5837D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31AB4-741C-4E61-BB18-211DA03F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014E-E9F0-4961-8D9F-9B90EA27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FCB1-D049-497E-A00F-809BF7CA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6C548-4C01-4551-AAFE-985D5732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C71F0-D8BA-475D-A055-EFBB48B0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0FC70-B4D8-4D83-B365-AD870F53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EB4AB-BDFB-4453-81B0-13EB9ABE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66F-8BC9-4877-BF2A-4138A7F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ADC04-B42B-4942-892C-3184F89D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787FC-017D-4469-8938-1A7DE91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3B82A-1224-4148-860E-B7F1ABF5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F74B7-94DC-4ED5-AB07-10ADC246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F7E2C-1BBA-4C8C-BC90-685DA313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325DD-033A-4982-A35B-E63CA6BA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C8C7-D438-4257-8D94-48D3B413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1091B-C51D-4F11-8749-35F6CCBB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27223-C7C3-4076-A24A-C93A446B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D88B-97C3-4D06-A953-31395991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22A-3597-4D63-A9BC-CEE5BB43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3EC0A-15F2-442E-8272-AA61A4E8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CA3DC-0BE2-459D-9FC7-C4DB6166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5AD97-FF3B-42FE-B4F2-722C3856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6147E-05E1-4A56-891D-4C2BE5E4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8BA5C-D184-40FB-8527-EFEF6BA4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69594-5EEB-4F40-AF7D-69653576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1A12-3ED5-4EAF-AADD-ED19735D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AFFBB-669E-4AFF-8522-E46FDDD9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4A56E-EAFE-4659-9FE4-11601F84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641EE-BD3B-4AE9-A537-AC0D77AA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5/06/20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A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256B56-04CA-4074-8F31-DF98E181F082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397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A31-4427-46B0-9F5C-7803D1651B7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9DB6264B-57D6-4EB4-A244-AAC11DF54D54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44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4CFD-F4C4-4BC4-9E71-B561A653C6AD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EFDCF2EB-2955-4F7F-BD80-E835A2EC549C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485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7C3-F921-4CD8-97FD-2FADAD408452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07A6D5B3-B5C3-4A63-8656-924F6EF69EB5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529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DAE8-93B1-451F-900B-038F956681E6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81896556-0B6A-44A0-BC23-7E1A7B56AE6D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573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0D7-9B8B-4B12-B94C-FA7C17E5EFEB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7A8DF049-4078-45E8-B6D5-B7F8819C7ADA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617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6C33-9610-4A29-922B-E57DB4D735F1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Pagina </a:t>
            </a:r>
            <a:fld id="{BD4EFAF0-7D2D-463D-B875-F907148223BF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45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5/06720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A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0F9CFB-8FBF-4560-9540-2B7831077CC0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89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A37-7B68-415A-B3E9-D20AAB61BB19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173F3A4A-C21B-4186-9ECC-B88FD84A533E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33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77F4-8B11-4455-B60C-BF53E4F952BA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F53A5D90-0912-4137-872A-A6EAA67A9F65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77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1CBB-E6F1-424E-AD14-77A029660A40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4815ACA2-887B-49C7-BCFA-791759C19A50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22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1C88-CED3-4D6C-B5D1-FA456D26393C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205653E0-B912-4BCF-833C-F722F0E1D506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265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77BC-639E-4E96-97D6-A7F88D54B48B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3C8EBA82-048B-4BAC-90B6-931859850815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309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AE9F-BF46-45EB-B5B8-38F259FA211B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BF9EB996-8EEB-4952-A7C2-9241EBB96F76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353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91C1-BBD7-42C1-A84F-3BBA5D420165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itolo Presenta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Pagina </a:t>
            </a:r>
            <a:fld id="{40DADB47-8E4E-433E-852A-75039AFA4B6F}" type="slidenum"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1"/>
          <p:cNvSpPr/>
          <p:nvPr/>
        </p:nvSpPr>
        <p:spPr>
          <a:xfrm>
            <a:off x="0" y="0"/>
            <a:ext cx="9144000" cy="3963960"/>
          </a:xfrm>
          <a:prstGeom prst="rect">
            <a:avLst/>
          </a:prstGeom>
          <a:solidFill>
            <a:srgbClr val="0067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268000" y="1484280"/>
            <a:ext cx="67676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brizio Mar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SEMINARIO FORMATIVO LES - Postmodernità e complessità: la proposta interdisciplinare del 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inerolo, 21 gennaio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2195280" y="333360"/>
            <a:ext cx="68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l metodo come processo decisionale</a:t>
            </a:r>
            <a:br>
              <a:rPr sz="2700"/>
            </a:br>
            <a:br>
              <a:rPr sz="2700"/>
            </a:br>
            <a:endParaRPr b="1" lang="en-US" sz="2700" spc="-1" strike="noStrike">
              <a:solidFill>
                <a:srgbClr val="822433"/>
              </a:solidFill>
              <a:latin typeface="Arial"/>
            </a:endParaRPr>
          </a:p>
        </p:txBody>
      </p:sp>
      <p:grpSp>
        <p:nvGrpSpPr>
          <p:cNvPr id="670" name="Group 17"/>
          <p:cNvGrpSpPr/>
          <p:nvPr/>
        </p:nvGrpSpPr>
        <p:grpSpPr>
          <a:xfrm>
            <a:off x="0" y="3402000"/>
            <a:ext cx="9145440" cy="3455640"/>
            <a:chOff x="0" y="3402000"/>
            <a:chExt cx="9145440" cy="3455640"/>
          </a:xfrm>
        </p:grpSpPr>
        <p:pic>
          <p:nvPicPr>
            <p:cNvPr id="671" name="Picture 15" descr="Fondino"/>
            <p:cNvPicPr/>
            <p:nvPr/>
          </p:nvPicPr>
          <p:blipFill>
            <a:blip r:embed="rId1"/>
            <a:stretch/>
          </p:blipFill>
          <p:spPr>
            <a:xfrm>
              <a:off x="0" y="3963960"/>
              <a:ext cx="9144000" cy="28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13" descr="logo +marchio"/>
            <p:cNvPicPr/>
            <p:nvPr/>
          </p:nvPicPr>
          <p:blipFill>
            <a:blip r:embed="rId2"/>
            <a:stretch/>
          </p:blipFill>
          <p:spPr>
            <a:xfrm>
              <a:off x="0" y="3966840"/>
              <a:ext cx="9145440" cy="9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6" descr="fascia"/>
            <p:cNvPicPr/>
            <p:nvPr/>
          </p:nvPicPr>
          <p:blipFill>
            <a:blip r:embed="rId3"/>
            <a:stretch/>
          </p:blipFill>
          <p:spPr>
            <a:xfrm>
              <a:off x="2089080" y="3402000"/>
              <a:ext cx="705492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822433"/>
                </a:solidFill>
                <a:latin typeface="Arial"/>
              </a:rPr>
              <a:t>MET-   HODÓS </a:t>
            </a:r>
            <a:endParaRPr b="1" lang="en-US" sz="33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75" name="Segnaposto data 3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21/01/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Segnaposto piè di pagina 4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ffffff"/>
                </a:solidFill>
                <a:latin typeface="Arial"/>
              </a:rPr>
              <a:t>SEMINARIO FORMATIVO LES - Postmodernità e complessità: la proposta interdisciplinare del 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Segnaposto numero diapositiva 5"/>
          <p:cNvSpPr/>
          <p:nvPr/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00458B1F-A941-49FD-BC95-39FCB59CB2EA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Diagramma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822433"/>
                </a:solidFill>
                <a:latin typeface="Arial"/>
              </a:rPr>
              <a:t>MET-   HODÓS </a:t>
            </a:r>
            <a:endParaRPr b="1" lang="en-US" sz="33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80" name="Segnaposto data 3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21/01/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Segnaposto piè di pagina 4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ffffff"/>
                </a:solidFill>
                <a:latin typeface="Arial"/>
              </a:rPr>
              <a:t>SEMINARIO FORMATIVO LES - Postmodernità e complessità: la proposta interdisciplinare del 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Segnaposto numero diapositiva 5"/>
          <p:cNvSpPr/>
          <p:nvPr/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077D24A0-B3D1-44FC-8B26-BE2B5880D466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Diagramma 1" descr=""/>
          <p:cNvPicPr/>
          <p:nvPr/>
        </p:nvPicPr>
        <p:blipFill>
          <a:blip r:embed="rId1"/>
          <a:stretch/>
        </p:blipFill>
        <p:spPr>
          <a:xfrm>
            <a:off x="1028880" y="952560"/>
            <a:ext cx="74293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822433"/>
                </a:solidFill>
                <a:latin typeface="Arial"/>
              </a:rPr>
              <a:t>Insegnare metodologia, ovvero a prendere decisioni</a:t>
            </a:r>
            <a:endParaRPr b="1" lang="en-US" sz="33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685" name="Segnaposto data 3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21/01/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Segnaposto piè di pagina 4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ffffff"/>
                </a:solidFill>
                <a:latin typeface="Arial"/>
              </a:rPr>
              <a:t>SEMINARIO FORMATIVO LES - Postmodernità e complessità: la proposta interdisciplinare del 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Segnaposto numero diapositiva 5"/>
          <p:cNvSpPr/>
          <p:nvPr/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C85B80DA-8A8D-4CD2-B87E-A30E6F4505CB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8" name="Diagramma 4" descr=""/>
          <p:cNvPicPr/>
          <p:nvPr/>
        </p:nvPicPr>
        <p:blipFill>
          <a:blip r:embed="rId1"/>
          <a:stretch/>
        </p:blipFill>
        <p:spPr>
          <a:xfrm>
            <a:off x="1498680" y="1371600"/>
            <a:ext cx="61974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6:13:10Z</dcterms:created>
  <dc:creator>- -</dc:creator>
  <dc:description/>
  <dc:language>en-US</dc:language>
  <cp:lastModifiedBy>Fabrizio Martire</cp:lastModifiedBy>
  <dcterms:modified xsi:type="dcterms:W3CDTF">2019-01-21T08:18:23Z</dcterms:modified>
  <cp:revision>92</cp:revision>
  <dc:subject/>
  <dc:title>Presentazione di PowerPoint</dc:title>
</cp:coreProperties>
</file>